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784-BBE7-4243-B397-481FF6BD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9CB-AFEC-498C-B2E2-862DBFE1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2F3-701F-4DDF-81B1-6B79D778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9CC-3E74-4244-AF55-36D5C0A0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8F8-599E-4B6E-ACDC-7D4C6713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C7C-7B0C-49DD-A34D-C2C6F03F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183-F7AF-4CFF-87EC-04C60E39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7D6-05D3-4D9A-A872-F2E43774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888-BD33-4E9D-9D46-8CEEB9D3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75D-A052-46B3-B3BF-2CC6FAED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488-94CA-4B29-9876-F8DFF57E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EEC-D09E-4802-9D48-D195EC5C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6ED6-C382-4882-902B-E158B5CC1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228600"/>
            <a:ext cx="786744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Goudy Stout"/>
              </a:rPr>
              <a:t>The Extreme Smoothi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Goudy Stout"/>
              <a:ea typeface="Goudy Stou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162560" cy="487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1766400">
            <a:off x="3962160" y="3276720"/>
            <a:ext cx="11430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Goudy Stout"/>
              </a:rPr>
              <a:t>$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Goudy Stout"/>
              <a:ea typeface="Goudy Stou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286840" y="12952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191120" y="57913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52280" y="579132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33526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1143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8077320" y="57913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8286840" y="33526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8153280" y="228600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8153280" y="4419720"/>
            <a:ext cx="990720" cy="761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6095880" y="594360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2209680" y="594360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0" y="4419720"/>
            <a:ext cx="990720" cy="761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0" y="2209680"/>
            <a:ext cx="990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5:35:47Z</dcterms:created>
  <dc:creator>SAISD</dc:creator>
  <dc:description/>
  <dc:language>en-US</dc:language>
  <cp:lastModifiedBy>SAISD</cp:lastModifiedBy>
  <dcterms:modified xsi:type="dcterms:W3CDTF">2010-04-14T16:23:18Z</dcterms:modified>
  <cp:revision>2</cp:revision>
  <dc:subject/>
  <dc:title>Slide 1</dc:title>
</cp:coreProperties>
</file>